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57B2E-297D-41E3-B115-26FEA6AEC6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2842-8E83-4275-B184-7EE3E4B364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64E40-3E44-4087-9917-76AE17880D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FE5BE-8690-402C-BA91-7CD815E40A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8DBF4-2D79-494D-8AB2-46D685076D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9534A-1122-46B4-8732-5A704D8FC9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BE09-771D-4A16-B002-9316D334EF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6DA34-6B66-4419-8508-6D8B090E7E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2A9FE-A6A3-4E3B-96FE-A5EBFB2CA2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8D764-455F-44E4-84D4-53B2C0FEE0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870B4-3845-4132-B0A6-1A907F308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4F15E-0C38-42B0-8576-FFDB34285E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920C6-16D0-4809-A214-429BFF5337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7466-C5E3-431C-986D-92C0327CC5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0360" y="547164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2060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036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7160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88284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2060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0360" y="547164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52060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036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7160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882840" y="5471640"/>
            <a:ext cx="267696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0600" y="547164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360" y="5471640"/>
            <a:ext cx="83138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260360" y="2128680"/>
            <a:ext cx="8315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76360" y="1332000"/>
            <a:ext cx="9215280" cy="6011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274320" y="539640"/>
            <a:ext cx="93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dobe Caslon Pro"/>
              </a:rPr>
              <a:t>The Commonwealth of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Capital</a:t>
            </a:r>
            <a:r>
              <a:rPr b="0" lang="en-US" sz="4400" spc="-1" strike="noStrike">
                <a:solidFill>
                  <a:srgbClr val="000000"/>
                </a:solidFill>
                <a:latin typeface="Adobe Caslon Pro"/>
              </a:rPr>
              <a:t> - Well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28720" y="1800360"/>
            <a:ext cx="7344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Official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387520" y="2230560"/>
            <a:ext cx="589284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Orginal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22400" y="1908000"/>
            <a:ext cx="86248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008000" y="1258920"/>
            <a:ext cx="8675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ank you for </a:t>
            </a:r>
            <a:r>
              <a:rPr b="0" lang="en-US" sz="4400" spc="-1" strike="noStrike">
                <a:solidFill>
                  <a:srgbClr val="000000"/>
                </a:solidFill>
                <a:latin typeface="Adobe Caslon Pro"/>
              </a:rPr>
              <a:t>your</a:t>
            </a: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 kind attention</a:t>
            </a:r>
            <a:r>
              <a:rPr b="0" lang="en-US" sz="4400" spc="-1" strike="noStrike">
                <a:solidFill>
                  <a:srgbClr val="000000"/>
                </a:solidFill>
                <a:latin typeface="Adobe Caslon Pro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"/>
              </a:rPr>
              <a:t>Welcome to Austral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dobe Caslon Pro"/>
              </a:rPr>
              <a:t>Th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79640" y="2016000"/>
            <a:ext cx="85676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Coat of 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24000" y="1774800"/>
            <a:ext cx="784872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An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8424720" y="6624720"/>
            <a:ext cx="129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079640" y="1797120"/>
            <a:ext cx="8496000" cy="4322520"/>
          </a:xfrm>
          <a:prstGeom prst="rect">
            <a:avLst/>
          </a:prstGeom>
          <a:ln w="0">
            <a:noFill/>
          </a:ln>
        </p:spPr>
      </p:pic>
      <p:pic>
        <p:nvPicPr>
          <p:cNvPr id="94" name="Гимн_Австралии_-_Track_4_(2-13)(www.muzico.ru).mp3" descr=""/>
          <p:cNvPicPr/>
          <p:nvPr/>
        </p:nvPicPr>
        <p:blipFill>
          <a:blip r:embed="rId2"/>
          <a:stretch/>
        </p:blipFill>
        <p:spPr>
          <a:xfrm>
            <a:off x="4888080" y="362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48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248000" y="1152360"/>
            <a:ext cx="233064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4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08360" y="2016000"/>
            <a:ext cx="5283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728720" y="792000"/>
            <a:ext cx="744696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dobe Caslon Pro"/>
              </a:rPr>
              <a:t>The</a:t>
            </a: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dobe Caslon Pro"/>
              </a:rPr>
              <a:t>The </a:t>
            </a: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Head of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311640" y="1917720"/>
            <a:ext cx="386244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Legislativ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408720" y="1979640"/>
            <a:ext cx="3311640" cy="50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863640" y="2016000"/>
            <a:ext cx="540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Executive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672000" y="2160720"/>
            <a:ext cx="356400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971640" y="662040"/>
            <a:ext cx="86756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Caslon Pro"/>
              </a:rPr>
              <a:t>The Judicial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71640" y="1687680"/>
            <a:ext cx="8640720" cy="551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СОШ №27</cp:lastModifiedBy>
  <dcterms:modified xsi:type="dcterms:W3CDTF">2012-01-27T12:09:39Z</dcterms:modified>
  <cp:revision>11</cp:revision>
  <dc:subject/>
  <dc:title>Слайд 1</dc:title>
</cp:coreProperties>
</file>